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442-85FE-4F28-BFF0-7D21C138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081-0336-4D4F-B8E5-A60979CA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747-C994-45A3-8C44-3306A63D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1FA-F3C8-4C99-889B-2B31DC5E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FF62-DD9C-4F7E-95D6-D0C0A4DB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8E1D-0471-4BB2-A106-902011C3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A45A-72A0-451E-BDEF-6639665F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63A3-974A-4263-8D0E-F40B58A1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94B6-1C18-4E61-B6C7-EC584D6F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8F18-4632-427B-9FE3-56D61B85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6ADA-8C43-4515-8676-6FF3CC8A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E61-F5ED-4F2F-81A2-40B43806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574B-D09C-4066-AA06-5ECEE3C7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5DEA-1FA0-4BB9-9093-1B1E0D6E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E189-9BAA-4513-A267-6B213FB7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81E6-F0DD-40D8-A504-86C68F9C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A223-41EE-4831-8EDD-3050437F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EDD-E977-4B4A-BD17-1C01B425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D40-4FC9-4078-86ED-73457469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F97-AB3A-4AD9-96D9-E8D07F25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609-EF81-4B39-B996-FDAE163F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3F8-11E2-407A-951C-D9989CB6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89A-9B18-41E7-9A3C-503220B5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C26-6433-4F19-921A-8B3BEA6C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451F-AC25-4DB3-9DC1-BAFBC2C4B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E9BD-4A11-4025-9FD4-865EF086D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lex Rational Expres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 #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-21 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fraction is being divided by another fraction, then keep the top fraction the same and multiply by the reciprocal of the bottom f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3886200" y="1523880"/>
                <a:ext cx="99072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3886200" y="1409760"/>
                <a:ext cx="99072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an addition or subtraction problem in either fraction, then you need to find a common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3200400" y="1981080"/>
                <a:ext cx="2324160" cy="312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2971800" y="1600200"/>
                <a:ext cx="2905200" cy="443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971800" y="1600200"/>
                <a:ext cx="2905200" cy="443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1773360" y="1744560"/>
                <a:ext cx="5302080" cy="414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8:36:30Z</dcterms:created>
  <dc:creator>Parkland High School</dc:creator>
  <dc:description/>
  <dc:language>en-US</dc:language>
  <cp:lastModifiedBy>test</cp:lastModifiedBy>
  <dcterms:modified xsi:type="dcterms:W3CDTF">2015-05-08T12:01:47Z</dcterms:modified>
  <cp:revision>3</cp:revision>
  <dc:subject/>
  <dc:title>Complex Rational Expressions</dc:title>
</cp:coreProperties>
</file>